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493920"/>
            <a:ext cx="8839080" cy="42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70320" y="2637000"/>
            <a:ext cx="61941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70320" y="4722480"/>
            <a:ext cx="61941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-493920"/>
            <a:ext cx="8839080" cy="42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70320" y="2637000"/>
            <a:ext cx="30225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44440" y="2637000"/>
            <a:ext cx="30225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470320" y="4722480"/>
            <a:ext cx="30225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44440" y="4722480"/>
            <a:ext cx="30225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-493920"/>
            <a:ext cx="8839080" cy="42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70320" y="2637000"/>
            <a:ext cx="199440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64800" y="2637000"/>
            <a:ext cx="199440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59280" y="2637000"/>
            <a:ext cx="199440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470320" y="4722480"/>
            <a:ext cx="199440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564800" y="4722480"/>
            <a:ext cx="199440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59280" y="4722480"/>
            <a:ext cx="199440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-493920"/>
            <a:ext cx="8839080" cy="42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470320" y="2637000"/>
            <a:ext cx="619416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-493920"/>
            <a:ext cx="8839080" cy="42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70320" y="2637000"/>
            <a:ext cx="619416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-493920"/>
            <a:ext cx="8839080" cy="42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70320" y="2637000"/>
            <a:ext cx="302256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44440" y="2637000"/>
            <a:ext cx="302256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-493920"/>
            <a:ext cx="8839080" cy="42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3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-360" y="1053720"/>
            <a:ext cx="883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493920"/>
            <a:ext cx="8839080" cy="42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70320" y="2637000"/>
            <a:ext cx="30225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4440" y="2637000"/>
            <a:ext cx="302256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70320" y="4722480"/>
            <a:ext cx="30225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493920"/>
            <a:ext cx="8839080" cy="42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470320" y="2637000"/>
            <a:ext cx="619416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-493920"/>
            <a:ext cx="8839080" cy="42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70320" y="2637000"/>
            <a:ext cx="302256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644440" y="2637000"/>
            <a:ext cx="30225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44440" y="4722480"/>
            <a:ext cx="30225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493920"/>
            <a:ext cx="8839080" cy="42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70320" y="2637000"/>
            <a:ext cx="30225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644440" y="2637000"/>
            <a:ext cx="30225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470320" y="4722480"/>
            <a:ext cx="61941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493920"/>
            <a:ext cx="8839080" cy="42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70320" y="2637000"/>
            <a:ext cx="61941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70320" y="4722480"/>
            <a:ext cx="61941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-493920"/>
            <a:ext cx="8839080" cy="42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70320" y="2637000"/>
            <a:ext cx="30225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44440" y="2637000"/>
            <a:ext cx="30225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70320" y="4722480"/>
            <a:ext cx="30225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644440" y="4722480"/>
            <a:ext cx="30225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493920"/>
            <a:ext cx="8839080" cy="42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70320" y="2637000"/>
            <a:ext cx="199440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64800" y="2637000"/>
            <a:ext cx="199440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59280" y="2637000"/>
            <a:ext cx="199440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2470320" y="4722480"/>
            <a:ext cx="199440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564800" y="4722480"/>
            <a:ext cx="199440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659280" y="4722480"/>
            <a:ext cx="199440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-493920"/>
            <a:ext cx="8839080" cy="42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70320" y="2637000"/>
            <a:ext cx="619416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-493920"/>
            <a:ext cx="8839080" cy="42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70320" y="2637000"/>
            <a:ext cx="302256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44440" y="2637000"/>
            <a:ext cx="302256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493920"/>
            <a:ext cx="8839080" cy="42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3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-360" y="1053720"/>
            <a:ext cx="883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493920"/>
            <a:ext cx="8839080" cy="42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70320" y="2637000"/>
            <a:ext cx="30225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4440" y="2637000"/>
            <a:ext cx="302256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70320" y="4722480"/>
            <a:ext cx="30225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493920"/>
            <a:ext cx="8839080" cy="42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70320" y="2637000"/>
            <a:ext cx="302256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44440" y="2637000"/>
            <a:ext cx="30225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44440" y="4722480"/>
            <a:ext cx="30225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-493920"/>
            <a:ext cx="8839080" cy="42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70320" y="2637000"/>
            <a:ext cx="30225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44440" y="2637000"/>
            <a:ext cx="30225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70320" y="4722480"/>
            <a:ext cx="6194160" cy="19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" Target="slide2.xml"/><Relationship Id="rId8" Type="http://schemas.openxmlformats.org/officeDocument/2006/relationships/slide" Target="slide1.xml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55760"/>
            <a:ext cx="9192960" cy="6479640"/>
            <a:chOff x="0" y="455760"/>
            <a:chExt cx="9192960" cy="6479640"/>
          </a:xfrm>
        </p:grpSpPr>
        <p:sp>
          <p:nvSpPr>
            <p:cNvPr id="1" name=""/>
            <p:cNvSpPr/>
            <p:nvPr/>
          </p:nvSpPr>
          <p:spPr>
            <a:xfrm>
              <a:off x="1800" y="700920"/>
              <a:ext cx="9191160" cy="62344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55760"/>
              <a:ext cx="9192960" cy="26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233280" y="2438280"/>
            <a:ext cx="1976400" cy="41911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today &amp; tomor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ordon B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0537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3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i="1" lang="en-US" sz="1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470320" y="2637000"/>
            <a:ext cx="619416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320" y="304920"/>
            <a:ext cx="8535960" cy="6553080"/>
          </a:xfrm>
          <a:custGeom>
            <a:avLst/>
            <a:gdLst/>
            <a:ahLst/>
            <a:rect l="l" t="t" r="r" b="b"/>
            <a:pathLst>
              <a:path w="5377" h="4128">
                <a:moveTo>
                  <a:pt x="0" y="4127"/>
                </a:moveTo>
                <a:lnTo>
                  <a:pt x="0" y="0"/>
                </a:lnTo>
                <a:lnTo>
                  <a:pt x="5327" y="0"/>
                </a:lnTo>
                <a:lnTo>
                  <a:pt x="5376" y="0"/>
                </a:lnTo>
              </a:path>
            </a:pathLst>
          </a:custGeom>
          <a:noFill/>
          <a:ln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196200" y="6480"/>
            <a:ext cx="254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Franklin Gothic Demi Cond"/>
              </a:rPr>
              <a:t>PowerPoint</a:t>
            </a:r>
            <a:r>
              <a:rPr b="0" lang="en-US" sz="1800" spc="-1" strike="noStrike">
                <a:solidFill>
                  <a:srgbClr val="b2b2b2"/>
                </a:solidFill>
                <a:latin typeface="Franklin Gothic Demi Cond"/>
              </a:rPr>
              <a:t>  </a:t>
            </a:r>
            <a:r>
              <a:rPr b="0" lang="en-US" sz="2000" spc="-1" strike="noStrike">
                <a:solidFill>
                  <a:srgbClr val="b2b2b2"/>
                </a:solidFill>
                <a:latin typeface="Franklin Gothic Demi Cond"/>
              </a:rPr>
              <a:t>Cen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-693720" y="2355840"/>
            <a:ext cx="235080" cy="24624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-698400" y="2654280"/>
            <a:ext cx="245880" cy="2588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-693720" y="2965320"/>
            <a:ext cx="235080" cy="24624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5"/>
          <a:stretch/>
        </p:blipFill>
        <p:spPr>
          <a:xfrm>
            <a:off x="-693720" y="3270240"/>
            <a:ext cx="235080" cy="24624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6"/>
          <a:stretch/>
        </p:blipFill>
        <p:spPr>
          <a:xfrm>
            <a:off x="-693720" y="3575160"/>
            <a:ext cx="235080" cy="24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82680"/>
            <a:ext cx="9192960" cy="6479640"/>
            <a:chOff x="0" y="382680"/>
            <a:chExt cx="9192960" cy="6479640"/>
          </a:xfrm>
        </p:grpSpPr>
        <p:sp>
          <p:nvSpPr>
            <p:cNvPr id="50" name=""/>
            <p:cNvSpPr/>
            <p:nvPr/>
          </p:nvSpPr>
          <p:spPr>
            <a:xfrm>
              <a:off x="1800" y="627840"/>
              <a:ext cx="9191160" cy="62344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82680"/>
              <a:ext cx="9192960" cy="26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7880" y="828360"/>
            <a:ext cx="8886600" cy="15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292929"/>
                </a:solidFill>
                <a:latin typeface="Arial"/>
              </a:rPr>
              <a:t>Click to edit the title text format</a:t>
            </a:r>
            <a:endParaRPr b="1" i="1" lang="en-US" sz="9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304920"/>
            <a:ext cx="8535960" cy="6553080"/>
          </a:xfrm>
          <a:custGeom>
            <a:avLst/>
            <a:gdLst/>
            <a:ahLst/>
            <a:rect l="l" t="t" r="r" b="b"/>
            <a:pathLst>
              <a:path w="5377" h="4128">
                <a:moveTo>
                  <a:pt x="0" y="4127"/>
                </a:moveTo>
                <a:lnTo>
                  <a:pt x="0" y="0"/>
                </a:lnTo>
                <a:lnTo>
                  <a:pt x="5327" y="0"/>
                </a:lnTo>
                <a:lnTo>
                  <a:pt x="5376" y="0"/>
                </a:lnTo>
              </a:path>
            </a:pathLst>
          </a:custGeom>
          <a:noFill/>
          <a:ln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firstslide"/>
          </p:cNvPr>
          <p:cNvSpPr/>
          <p:nvPr/>
        </p:nvSpPr>
        <p:spPr>
          <a:xfrm>
            <a:off x="-222480" y="6480"/>
            <a:ext cx="254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Franklin Gothic Demi Cond"/>
              </a:rPr>
              <a:t>PowerPoint</a:t>
            </a:r>
            <a:r>
              <a:rPr b="0" lang="en-US" sz="1800" spc="-1" strike="noStrike">
                <a:solidFill>
                  <a:srgbClr val="b2b2b2"/>
                </a:solidFill>
                <a:latin typeface="Franklin Gothic Demi Cond"/>
              </a:rPr>
              <a:t>  </a:t>
            </a:r>
            <a:r>
              <a:rPr b="0" lang="en-US" sz="2000" spc="-1" strike="noStrike">
                <a:solidFill>
                  <a:srgbClr val="b2b2b2"/>
                </a:solidFill>
                <a:latin typeface="Franklin Gothic Demi Cond"/>
              </a:rPr>
              <a:t>Cen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693720" y="2355840"/>
            <a:ext cx="235080" cy="246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-698400" y="2654280"/>
            <a:ext cx="245880" cy="25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-693720" y="2965320"/>
            <a:ext cx="235080" cy="246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-693720" y="3270240"/>
            <a:ext cx="235080" cy="246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-693720" y="3575160"/>
            <a:ext cx="235080" cy="245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0120" y="6400800"/>
            <a:ext cx="17524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>
            <a:hlinkClick r:id="rId7" action="ppaction://hlinksldjump"/>
          </p:cNvPr>
          <p:cNvSpPr/>
          <p:nvPr/>
        </p:nvSpPr>
        <p:spPr>
          <a:xfrm>
            <a:off x="7694640" y="6486480"/>
            <a:ext cx="377640" cy="36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631360" y="6481800"/>
            <a:ext cx="374400" cy="3747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11111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8713800" y="6553080"/>
            <a:ext cx="212760" cy="222480"/>
          </a:xfrm>
          <a:prstGeom prst="rightArrow">
            <a:avLst>
              <a:gd name="adj1" fmla="val 61611"/>
              <a:gd name="adj2" fmla="val 53718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rot="5400000">
            <a:off x="7705800" y="6488280"/>
            <a:ext cx="374400" cy="3744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11111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>
            <a:hlinkClick r:id="rId8" action="ppaction://hlinksldjump"/>
          </p:cNvPr>
          <p:cNvSpPr/>
          <p:nvPr/>
        </p:nvSpPr>
        <p:spPr>
          <a:xfrm flipH="1" rot="5400000">
            <a:off x="7781760" y="6554160"/>
            <a:ext cx="212760" cy="222480"/>
          </a:xfrm>
          <a:prstGeom prst="rightArrow">
            <a:avLst>
              <a:gd name="adj1" fmla="val 61611"/>
              <a:gd name="adj2" fmla="val 53718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81840" y="6707160"/>
            <a:ext cx="1800" cy="8100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883640" y="6638760"/>
            <a:ext cx="1440" cy="399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 flipH="1">
            <a:off x="8174160" y="6481800"/>
            <a:ext cx="374400" cy="3747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11111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 flipH="1">
            <a:off x="8238240" y="6553080"/>
            <a:ext cx="212760" cy="222480"/>
          </a:xfrm>
          <a:prstGeom prst="rightArrow">
            <a:avLst>
              <a:gd name="adj1" fmla="val 61611"/>
              <a:gd name="adj2" fmla="val 53718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1817280" y="4427280"/>
            <a:ext cx="4264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Internet Past, Present and Fu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467080" y="3657600"/>
            <a:ext cx="61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8886960" cy="15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2b2b2"/>
                </a:solidFill>
                <a:latin typeface="Arial"/>
              </a:rPr>
              <a:t>Internet Past, Present and Future</a:t>
            </a:r>
            <a:endParaRPr b="1" i="1" lang="en-US" sz="5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828800"/>
            <a:ext cx="37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by Gordon 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8280" y="2133720"/>
            <a:ext cx="3621240" cy="252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9040" y="1917720"/>
            <a:ext cx="999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7c80"/>
                </a:solidFill>
                <a:latin typeface="Arial"/>
              </a:rPr>
              <a:t>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2590920"/>
            <a:ext cx="54864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rday, Today &amp; Tomorro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ternet 1.0, 2.0, and 3.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886200"/>
            <a:ext cx="571500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Bandwidth, Quality of Service, and  Symmetr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how the net takes over telephony and television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2514600"/>
            <a:ext cx="198144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438280"/>
            <a:ext cx="1976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rdon Be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senior researcher in Microsoft's Telepresence Research Group - a part of the Bay Area Research Center (BARC) and a computer-consultant-at-larg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raintro" descr=""/>
          <p:cNvPicPr/>
          <p:nvPr/>
        </p:nvPicPr>
        <p:blipFill>
          <a:blip r:embed="rId1"/>
          <a:stretch/>
        </p:blipFill>
        <p:spPr>
          <a:xfrm>
            <a:off x="7620120" y="5715000"/>
            <a:ext cx="1390680" cy="39060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8186760" y="6481800"/>
            <a:ext cx="374400" cy="374760"/>
            <a:chOff x="8186760" y="6481800"/>
            <a:chExt cx="374400" cy="374760"/>
          </a:xfrm>
        </p:grpSpPr>
        <p:sp>
          <p:nvSpPr>
            <p:cNvPr id="119" name=""/>
            <p:cNvSpPr/>
            <p:nvPr/>
          </p:nvSpPr>
          <p:spPr>
            <a:xfrm flipH="1">
              <a:off x="8186760" y="6481800"/>
              <a:ext cx="374400" cy="374760"/>
            </a:xfrm>
            <a:prstGeom prst="ellipse">
              <a:avLst/>
            </a:pr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8250840" y="6553080"/>
              <a:ext cx="212760" cy="222480"/>
            </a:xfrm>
            <a:prstGeom prst="rightArrow">
              <a:avLst>
                <a:gd name="adj1" fmla="val 61611"/>
                <a:gd name="adj2" fmla="val 53718"/>
              </a:avLst>
            </a:prstGeom>
            <a:solidFill>
              <a:srgbClr val="333333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470320" y="2637000"/>
            <a:ext cx="619416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phony: time,distance and bandwidth cost model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ubscribers have paid for the “sunk” costs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/ television: always connected cost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traffic crosses over voice traffic in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ing” QoS (bandwidth &amp; latency) implies ability to have very good audio and speech telev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phony over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independent pr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s the need (cost) for telephony billing  (15% of co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s PBX costs by having “telecomputer” for phone, videophone, and data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-360" y="10537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700" spc="-1" strike="noStrike">
                <a:solidFill>
                  <a:srgbClr val="dddddd"/>
                </a:solidFill>
                <a:latin typeface="Arial"/>
              </a:rPr>
              <a:t>Final considerations</a:t>
            </a:r>
            <a:endParaRPr b="1" i="1" lang="en-US" sz="67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657600"/>
            <a:ext cx="61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8886960" cy="15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900" spc="-1" strike="noStrike">
                <a:solidFill>
                  <a:srgbClr val="dddddd"/>
                </a:solidFill>
                <a:latin typeface="Arial"/>
              </a:rPr>
              <a:t>Growth in users?</a:t>
            </a:r>
            <a:endParaRPr b="1" i="1" lang="en-US" sz="5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170080" y="2535120"/>
            <a:ext cx="1800" cy="3221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12840" y="5746680"/>
            <a:ext cx="114480" cy="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12840" y="5214960"/>
            <a:ext cx="11448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12840" y="3608280"/>
            <a:ext cx="114480" cy="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12840" y="3076560"/>
            <a:ext cx="11448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12840" y="2544840"/>
            <a:ext cx="11448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60720" y="5746680"/>
            <a:ext cx="5062320" cy="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170080" y="5690880"/>
            <a:ext cx="1800" cy="1126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170080" y="5737320"/>
            <a:ext cx="560520" cy="93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160720" y="5738400"/>
            <a:ext cx="579240" cy="97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6600" y="5715000"/>
            <a:ext cx="38160" cy="363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41640" y="5719680"/>
            <a:ext cx="56880" cy="55800"/>
          </a:xfrm>
          <a:custGeom>
            <a:avLst/>
            <a:gdLst/>
            <a:ahLst/>
            <a:rect l="l" t="t" r="r" b="b"/>
            <a:pathLst>
              <a:path w="36" h="35">
                <a:moveTo>
                  <a:pt x="18" y="35"/>
                </a:moveTo>
                <a:lnTo>
                  <a:pt x="36" y="17"/>
                </a:lnTo>
                <a:lnTo>
                  <a:pt x="18" y="0"/>
                </a:lnTo>
                <a:lnTo>
                  <a:pt x="0" y="17"/>
                </a:lnTo>
                <a:lnTo>
                  <a:pt x="18" y="35"/>
                </a:lnTo>
                <a:close/>
              </a:path>
            </a:pathLst>
          </a:custGeom>
          <a:solidFill>
            <a:srgbClr val="0000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97120" y="2976480"/>
            <a:ext cx="4545000" cy="2827080"/>
            <a:chOff x="2697120" y="2976480"/>
            <a:chExt cx="4545000" cy="2827080"/>
          </a:xfrm>
        </p:grpSpPr>
        <p:sp>
          <p:nvSpPr>
            <p:cNvPr id="136" name=""/>
            <p:cNvSpPr/>
            <p:nvPr/>
          </p:nvSpPr>
          <p:spPr>
            <a:xfrm flipV="1">
              <a:off x="2730600" y="5690880"/>
              <a:ext cx="1440" cy="112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290760" y="5690880"/>
              <a:ext cx="1800" cy="112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851280" y="5690880"/>
              <a:ext cx="1440" cy="112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411800" y="5690880"/>
              <a:ext cx="1440" cy="112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971960" y="5690880"/>
              <a:ext cx="1800" cy="112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532480" y="5690880"/>
              <a:ext cx="1440" cy="112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093000" y="5690880"/>
              <a:ext cx="1440" cy="112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653160" y="5690880"/>
              <a:ext cx="1800" cy="112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213680" y="5690880"/>
              <a:ext cx="1440" cy="112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828880" y="5730840"/>
              <a:ext cx="461880" cy="6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338640" y="5711760"/>
              <a:ext cx="512640" cy="15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851280" y="5664240"/>
              <a:ext cx="560520" cy="46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411800" y="5578200"/>
              <a:ext cx="560160" cy="838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971960" y="5406840"/>
              <a:ext cx="560520" cy="169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5532480" y="5064120"/>
              <a:ext cx="560520" cy="3412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093000" y="4377960"/>
              <a:ext cx="560160" cy="684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653160" y="3009600"/>
              <a:ext cx="560520" cy="1368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720880" y="3000240"/>
              <a:ext cx="4494240" cy="2738520"/>
              <a:chOff x="2720880" y="3000240"/>
              <a:chExt cx="4494240" cy="2738520"/>
            </a:xfrm>
          </p:grpSpPr>
          <p:sp>
            <p:nvSpPr>
              <p:cNvPr id="154" name=""/>
              <p:cNvSpPr/>
              <p:nvPr/>
            </p:nvSpPr>
            <p:spPr>
              <a:xfrm flipV="1">
                <a:off x="2720880" y="5730840"/>
                <a:ext cx="579600" cy="792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3281400" y="5709960"/>
                <a:ext cx="579240" cy="190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3841920" y="5662080"/>
                <a:ext cx="579240" cy="478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4402080" y="5576400"/>
                <a:ext cx="579600" cy="874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4962600" y="5403600"/>
                <a:ext cx="579240" cy="17604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5522760" y="5059080"/>
                <a:ext cx="579600" cy="35244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6085080" y="4368600"/>
                <a:ext cx="574560" cy="7030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6648480" y="3000240"/>
                <a:ext cx="566640" cy="138744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2697120" y="5705640"/>
              <a:ext cx="38160" cy="36360"/>
            </a:xfrm>
            <a:prstGeom prst="rect">
              <a:avLst/>
            </a:prstGeom>
            <a:solidFill>
              <a:srgbClr val="0000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57640" y="5695920"/>
              <a:ext cx="38160" cy="36720"/>
            </a:xfrm>
            <a:prstGeom prst="rect">
              <a:avLst/>
            </a:prstGeom>
            <a:solidFill>
              <a:srgbClr val="0000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17800" y="5676840"/>
              <a:ext cx="38160" cy="38160"/>
            </a:xfrm>
            <a:prstGeom prst="rect">
              <a:avLst/>
            </a:prstGeom>
            <a:solidFill>
              <a:srgbClr val="0000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78320" y="5629320"/>
              <a:ext cx="38160" cy="38160"/>
            </a:xfrm>
            <a:prstGeom prst="rect">
              <a:avLst/>
            </a:prstGeom>
            <a:solidFill>
              <a:srgbClr val="0000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38840" y="5543640"/>
              <a:ext cx="38160" cy="38160"/>
            </a:xfrm>
            <a:prstGeom prst="rect">
              <a:avLst/>
            </a:prstGeom>
            <a:solidFill>
              <a:srgbClr val="0000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99000" y="5372280"/>
              <a:ext cx="38160" cy="37800"/>
            </a:xfrm>
            <a:prstGeom prst="rect">
              <a:avLst/>
            </a:prstGeom>
            <a:solidFill>
              <a:srgbClr val="0000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59520" y="5029200"/>
              <a:ext cx="38160" cy="38160"/>
            </a:xfrm>
            <a:prstGeom prst="rect">
              <a:avLst/>
            </a:prstGeom>
            <a:solidFill>
              <a:srgbClr val="0000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20040" y="4344840"/>
              <a:ext cx="37800" cy="38160"/>
            </a:xfrm>
            <a:prstGeom prst="rect">
              <a:avLst/>
            </a:prstGeom>
            <a:solidFill>
              <a:srgbClr val="0000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80200" y="2976480"/>
              <a:ext cx="38160" cy="38160"/>
            </a:xfrm>
            <a:prstGeom prst="rect">
              <a:avLst/>
            </a:prstGeom>
            <a:solidFill>
              <a:srgbClr val="0000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01800" y="5710320"/>
              <a:ext cx="5724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35"/>
                  </a:moveTo>
                  <a:lnTo>
                    <a:pt x="36" y="17"/>
                  </a:lnTo>
                  <a:lnTo>
                    <a:pt x="18" y="0"/>
                  </a:lnTo>
                  <a:lnTo>
                    <a:pt x="0" y="17"/>
                  </a:lnTo>
                  <a:lnTo>
                    <a:pt x="18" y="35"/>
                  </a:lnTo>
                  <a:close/>
                </a:path>
              </a:pathLst>
            </a:custGeom>
            <a:solidFill>
              <a:srgbClr val="0000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62320" y="5700600"/>
              <a:ext cx="57240" cy="55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35"/>
                  </a:moveTo>
                  <a:lnTo>
                    <a:pt x="36" y="17"/>
                  </a:lnTo>
                  <a:lnTo>
                    <a:pt x="18" y="0"/>
                  </a:lnTo>
                  <a:lnTo>
                    <a:pt x="0" y="17"/>
                  </a:lnTo>
                  <a:lnTo>
                    <a:pt x="18" y="35"/>
                  </a:lnTo>
                  <a:close/>
                </a:path>
              </a:pathLst>
            </a:custGeom>
            <a:solidFill>
              <a:srgbClr val="0000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22840" y="5681520"/>
              <a:ext cx="56880" cy="55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35"/>
                  </a:moveTo>
                  <a:lnTo>
                    <a:pt x="36" y="18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18" y="35"/>
                  </a:lnTo>
                  <a:close/>
                </a:path>
              </a:pathLst>
            </a:custGeom>
            <a:solidFill>
              <a:srgbClr val="0000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83000" y="563400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36"/>
                  </a:moveTo>
                  <a:lnTo>
                    <a:pt x="36" y="18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43520" y="55483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36"/>
                  </a:moveTo>
                  <a:lnTo>
                    <a:pt x="36" y="18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04040" y="5376960"/>
              <a:ext cx="56880" cy="568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36"/>
                  </a:moveTo>
                  <a:lnTo>
                    <a:pt x="36" y="18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64200" y="503388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36"/>
                  </a:moveTo>
                  <a:lnTo>
                    <a:pt x="36" y="18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24720" y="4349880"/>
              <a:ext cx="57240" cy="568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36"/>
                  </a:moveTo>
                  <a:lnTo>
                    <a:pt x="36" y="18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84880" y="298116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36"/>
                  </a:moveTo>
                  <a:lnTo>
                    <a:pt x="36" y="18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112840" y="4022640"/>
            <a:ext cx="5129280" cy="662040"/>
            <a:chOff x="2112840" y="4022640"/>
            <a:chExt cx="5129280" cy="662040"/>
          </a:xfrm>
        </p:grpSpPr>
        <p:sp>
          <p:nvSpPr>
            <p:cNvPr id="181" name=""/>
            <p:cNvSpPr/>
            <p:nvPr/>
          </p:nvSpPr>
          <p:spPr>
            <a:xfrm>
              <a:off x="2112840" y="4683240"/>
              <a:ext cx="114480" cy="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12840" y="4140360"/>
              <a:ext cx="114480" cy="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170080" y="4254120"/>
              <a:ext cx="560520" cy="28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730600" y="4235040"/>
              <a:ext cx="560160" cy="1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290760" y="4206600"/>
              <a:ext cx="560520" cy="28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851280" y="4178160"/>
              <a:ext cx="560520" cy="288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411800" y="4158720"/>
              <a:ext cx="560160" cy="1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002200" y="4133880"/>
              <a:ext cx="530280" cy="25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532480" y="4105080"/>
              <a:ext cx="560520" cy="27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093000" y="4084200"/>
              <a:ext cx="560160" cy="1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653160" y="4055760"/>
              <a:ext cx="560520" cy="28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160720" y="4038480"/>
              <a:ext cx="5062320" cy="227160"/>
              <a:chOff x="2160720" y="4038480"/>
              <a:chExt cx="5062320" cy="227160"/>
            </a:xfrm>
          </p:grpSpPr>
          <p:sp>
            <p:nvSpPr>
              <p:cNvPr id="193" name=""/>
              <p:cNvSpPr/>
              <p:nvPr/>
            </p:nvSpPr>
            <p:spPr>
              <a:xfrm flipV="1">
                <a:off x="2160720" y="4236840"/>
                <a:ext cx="579240" cy="28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720880" y="4218120"/>
                <a:ext cx="579600" cy="18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3281400" y="4189320"/>
                <a:ext cx="579240" cy="28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3841920" y="4160520"/>
                <a:ext cx="579240" cy="2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4402080" y="4141440"/>
                <a:ext cx="579600" cy="19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4962600" y="4113000"/>
                <a:ext cx="579240" cy="2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5522760" y="4084560"/>
                <a:ext cx="579600" cy="28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6083280" y="4066920"/>
                <a:ext cx="579600" cy="19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6643800" y="4038480"/>
                <a:ext cx="579240" cy="28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136960" y="4249800"/>
              <a:ext cx="37800" cy="381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97120" y="4221000"/>
              <a:ext cx="38160" cy="381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57640" y="4202280"/>
              <a:ext cx="38160" cy="3780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17800" y="4173480"/>
              <a:ext cx="38160" cy="381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78320" y="4145040"/>
              <a:ext cx="38160" cy="381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38840" y="4127400"/>
              <a:ext cx="38160" cy="367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99000" y="4098960"/>
              <a:ext cx="38160" cy="363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59520" y="4070520"/>
              <a:ext cx="38160" cy="3780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20040" y="4051440"/>
              <a:ext cx="37800" cy="3780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80200" y="4022640"/>
              <a:ext cx="38160" cy="381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41640" y="425448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36"/>
                  </a:moveTo>
                  <a:lnTo>
                    <a:pt x="36" y="18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01800" y="4226040"/>
              <a:ext cx="57240" cy="568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36"/>
                  </a:moveTo>
                  <a:lnTo>
                    <a:pt x="36" y="18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62320" y="420696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36"/>
                  </a:moveTo>
                  <a:lnTo>
                    <a:pt x="36" y="18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22840" y="4178160"/>
              <a:ext cx="5688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36"/>
                  </a:moveTo>
                  <a:lnTo>
                    <a:pt x="36" y="18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83000" y="41497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36"/>
                  </a:moveTo>
                  <a:lnTo>
                    <a:pt x="36" y="18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43520" y="4132440"/>
              <a:ext cx="5724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35"/>
                  </a:moveTo>
                  <a:lnTo>
                    <a:pt x="36" y="17"/>
                  </a:lnTo>
                  <a:lnTo>
                    <a:pt x="18" y="0"/>
                  </a:lnTo>
                  <a:lnTo>
                    <a:pt x="0" y="17"/>
                  </a:lnTo>
                  <a:lnTo>
                    <a:pt x="18" y="35"/>
                  </a:lnTo>
                  <a:close/>
                </a:path>
              </a:pathLst>
            </a:cu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04040" y="4103640"/>
              <a:ext cx="5688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35"/>
                  </a:moveTo>
                  <a:lnTo>
                    <a:pt x="36" y="18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18" y="35"/>
                  </a:lnTo>
                  <a:close/>
                </a:path>
              </a:pathLst>
            </a:cu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64200" y="407520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36"/>
                  </a:moveTo>
                  <a:lnTo>
                    <a:pt x="36" y="18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24720" y="40561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36"/>
                  </a:moveTo>
                  <a:lnTo>
                    <a:pt x="36" y="18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84880" y="40273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36"/>
                  </a:moveTo>
                  <a:lnTo>
                    <a:pt x="36" y="18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940760" y="5641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55640" y="51004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55640" y="45687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55640" y="403560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55640" y="3503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60240" y="297180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60240" y="242892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1951200" y="59540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511720" y="59540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3072240" y="59493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3632400" y="595080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4192920" y="59540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4753080" y="59540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5313600" y="59540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5874120" y="59540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6434280" y="59540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6994800" y="59493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13160" y="3062160"/>
            <a:ext cx="420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growth extrapolated @9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48440" y="3710160"/>
            <a:ext cx="271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 population @1.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2470320" y="2437920"/>
            <a:ext cx="6140160" cy="36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nets: research, public, and private Intran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width and capacity is available, its both money and some real technical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ason to fail… technical solutions exist to make it work successful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nets won’t fail: companies buy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won’t let it fail… it’s too embarra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67080" y="3657600"/>
            <a:ext cx="61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0" y="761760"/>
            <a:ext cx="8886960" cy="15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Arial"/>
              </a:rPr>
              <a:t>Why Internet will not collapse… any brownouts will help make it right</a:t>
            </a:r>
            <a:endParaRPr b="1" i="1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2470320" y="2437920"/>
            <a:ext cx="6140160" cy="36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net 1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ka ARPAnet goal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login; load, program,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ha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logi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,  plus as  a service carrier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s/news/chat/muds/mo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,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c to enable network compu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0" y="761760"/>
            <a:ext cx="8886960" cy="15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dddddd"/>
                </a:solidFill>
                <a:latin typeface="Arial"/>
              </a:rPr>
              <a:t>History: Story of Serendipity</a:t>
            </a:r>
            <a:endParaRPr b="1" i="1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470320" y="2437920"/>
            <a:ext cx="6140160" cy="36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ternet 2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ka NREN aka NII aka GII goa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high bandwidth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o supers &amp; common faciliti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, images and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, HTML, Gopher, and Mosa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-text links, mousing, slow graphics vr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 boards &amp; catalogues to adverti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warehouses for text, simple images, almost telephony, &amp; RealAudio™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 SeeMe™ -- now they’ll know you’re a d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67080" y="3657600"/>
            <a:ext cx="61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0" y="761760"/>
            <a:ext cx="8886960" cy="15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dddddd"/>
                </a:solidFill>
                <a:latin typeface="Arial"/>
              </a:rPr>
              <a:t>Internet 2.0 (now)... serendipity</a:t>
            </a:r>
            <a:endParaRPr b="1" i="1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470320" y="2437920"/>
            <a:ext cx="6140160" cy="36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, high speed, universal dial tone for high speed, symmetrical links that carr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gible bits: phone, videophon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radio” on demand, TV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com with its own 2 &amp; 3d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serving warehouses for audio, image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 (x,y,t), and 4D (3D+z = V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-stuff: work, science, education, … 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le &amp;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ymmetrical (anyone can ser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Mbps (not 0.01 -0.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2x telephones (telephone + c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ment for telephony and cabl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67080" y="3657600"/>
            <a:ext cx="61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0" y="761760"/>
            <a:ext cx="8886960" cy="15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dddddd"/>
                </a:solidFill>
                <a:uFillTx/>
                <a:latin typeface="Arial"/>
              </a:rPr>
              <a:t>Internet 3.0</a:t>
            </a:r>
            <a:r>
              <a:rPr b="1" i="1" lang="en-US" sz="4400" spc="-1" strike="noStrike">
                <a:solidFill>
                  <a:srgbClr val="dddddd"/>
                </a:solidFill>
                <a:latin typeface="Arial"/>
              </a:rPr>
              <a:t> goals &amp; vision </a:t>
            </a:r>
            <a:br>
              <a:rPr sz="4400"/>
            </a:br>
            <a:r>
              <a:rPr b="1" i="1" lang="en-US" sz="4400" spc="-1" strike="noStrike">
                <a:solidFill>
                  <a:srgbClr val="dddddd"/>
                </a:solidFill>
                <a:latin typeface="Arial"/>
              </a:rPr>
              <a:t>(IP dial tone) </a:t>
            </a:r>
            <a:endParaRPr b="1" i="1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2470320" y="2437920"/>
            <a:ext cx="6140160" cy="36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, shopping, learning, playing, and info gathering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rking… the market is cl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in old servces are faster, more convenient, and cheaper (e.g. FedE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’s faster to find info than going to a library, or finding the person or book who know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ertising is working (e.g. CN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umers are buying (e.g. L L Bea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United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hone calls are being made…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oing phone companies and eliminating PBX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s evolve to videoteleph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telephony evolves to televison… V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67080" y="3657600"/>
            <a:ext cx="61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0" y="761760"/>
            <a:ext cx="8886960" cy="15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Arial"/>
              </a:rPr>
              <a:t>Why Internet will grow… </a:t>
            </a:r>
            <a:br>
              <a:rPr sz="4000"/>
            </a:br>
            <a:r>
              <a:rPr b="1" i="1" lang="en-US" sz="4000" spc="-1" strike="noStrike">
                <a:solidFill>
                  <a:srgbClr val="dddddd"/>
                </a:solidFill>
                <a:latin typeface="Arial"/>
              </a:rPr>
              <a:t>the price and functionality are right</a:t>
            </a:r>
            <a:endParaRPr b="1" i="1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70320" y="2437920"/>
            <a:ext cx="6140160" cy="36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the home: Home N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phony: 128 Kbps (can carry 2 Mbp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vision: coax (can carry 1 Gbp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networks: 100 Mbps Eth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nets: 100 Kbps twis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i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 to the Central Office via the curb and neighborhood: Cu pair, Cu coax, minimal fi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Office to NAPs: fi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bone and Internet infrastructure: fi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: IP and TCP have to be overhau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: too few, too s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67080" y="3657600"/>
            <a:ext cx="61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0" y="761760"/>
            <a:ext cx="8886960" cy="15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dddddd"/>
                </a:solidFill>
                <a:latin typeface="Arial"/>
              </a:rPr>
              <a:t>The top six bottlenecks?</a:t>
            </a:r>
            <a:endParaRPr b="1" i="1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447920" y="2133720"/>
            <a:ext cx="6216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high “Sunk” cost of copper and fiber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es in the ground, Copper,  and fiber are paid fo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 evolves 100x with wave division multiplexing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Gbps/wave length =&gt;1 Tb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 private networks for corporate Intran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ompeting options for the local loop “last mile”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 pair (telephony): can carry 10-20 Mbps vs 33Kb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TV fiber and Cu coax: carries n Gbps /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ber to the curb and home: will occur in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: LMDS and MMDS  are possible for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M NOW has a complete protocol suite to deliver guaranteed bandwidth at low latency; applies to 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 can be scaled… deploy m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 servers: help by eliminating network ac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0" y="761760"/>
            <a:ext cx="8886960" cy="15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dddd"/>
                </a:solidFill>
                <a:latin typeface="Arial"/>
              </a:rPr>
              <a:t>Eliminating the bottlenecks...</a:t>
            </a:r>
            <a:br>
              <a:rPr sz="4000"/>
            </a:br>
            <a:r>
              <a:rPr b="1" i="1" lang="en-US" sz="4000" spc="-1" strike="noStrike">
                <a:solidFill>
                  <a:srgbClr val="dddddd"/>
                </a:solidFill>
                <a:latin typeface="Arial"/>
              </a:rPr>
              <a:t>revolutionizes telephony</a:t>
            </a:r>
            <a:endParaRPr b="1" i="1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2T18:25:08Z</dcterms:created>
  <dc:creator>imranq</dc:creator>
  <dc:description/>
  <dc:language>en-US</dc:language>
  <cp:lastModifiedBy>Imran Qureshi</cp:lastModifiedBy>
  <dcterms:modified xsi:type="dcterms:W3CDTF">1996-10-03T00:30:59Z</dcterms:modified>
  <cp:revision>37</cp:revision>
  <dc:subject/>
  <dc:title>Internet, today &amp; tomorr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web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